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86C-8593-4B94-9150-CABE0F49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93B-B188-49E3-8FAE-07A8928A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F02-17BB-4EC7-91CC-777CF4FA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A0B-D3CD-47CC-980D-71232660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481-679D-4620-81F1-3F91EEEC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9F6-FF9A-41A8-88B5-F64B2168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B4B-E283-4446-AD08-E1C24452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7F6-993B-47BF-933D-07ED69AD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98D-53D9-42B3-A291-BF33DAC9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ED62-EEF8-4044-853C-DA5B548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ABD-6282-474F-AADA-30383E9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335F-4342-48F6-AAAA-D980E53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FF46-2B6F-4AFE-ADDC-2ACCD05C0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17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52480" y="0"/>
            <a:ext cx="1371600" cy="100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66520" y="2286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Century Gothic"/>
              </a:rPr>
              <a:t>@ ISMB &amp; BOSC 200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8222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http://gmod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1119240"/>
          <a:ext cx="9144000" cy="5745240"/>
        </p:xfrm>
        <a:graphic>
          <a:graphicData uri="http://schemas.openxmlformats.org/drawingml/2006/table">
            <a:tbl>
              <a:tblPr/>
              <a:tblGrid>
                <a:gridCol w="3809880"/>
                <a:gridCol w="457200"/>
                <a:gridCol w="4419720"/>
                <a:gridCol w="457200"/>
              </a:tblGrid>
              <a:tr h="284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mine - Open source Dat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ehouse and Query Interfa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Smith, Fri 11:10-11: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gatis: A Web-based Bioinformatic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peline Management and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borative Development  Syste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shua Orvis, Sat 9:30-9: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llo: a Sequence Annotation Ed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 Lee, Sat 11:50-1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BRACE - BioMart Developments and Fu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ed Haider, Sat 1:50-2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3493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e0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- Enabling Data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ed Haider, Sun 2:15-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mine - Open source Data Warehouse and Query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chard Smith, Mon 12:15-12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hway Tools Software: Regulatory Networks and Recent Developments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er Karp, Mon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: Enabling Complex Compu-tational Analysis For Experimental Biologi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mes Taylor, Tue 3:15-3: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 GALAXY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on Nekrutenko, Tue 3:45-4: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6a59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2680" indent="-1126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f7a6c"/>
                    </a:solidFill>
                  </a:tcPr>
                </a:tc>
              </a:tr>
              <a:tr h="289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Genome Grid for Finding new Bug G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omplete System for Community Genome  Anno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axy workflows for reproducible analyses of next-generation sequencing data, Anton Nekruten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agenomic Analysis with Galaxy: Windshield Genomics and Beyo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BRACE – Enabling Data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OD: Managing genomic data from emerging model org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e99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a6c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imensional annotation of the Escherichia coli K-12 ge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wards Data Analysis of Genome Wide Influenza RNAi Sc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informatics to support the sequencing of Brassica rapa chromosomes A2 and A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 5:45-8:30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co-variation among rates of differ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s of mu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for database interoperability: a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5440" indent="-554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the CASIMIR consort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5440" indent="-5544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58c1a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 rot="5400000">
            <a:off x="2583000" y="2369520"/>
            <a:ext cx="28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C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7480080" y="5244840"/>
            <a:ext cx="287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using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2627640" y="5174640"/>
            <a:ext cx="284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sters about GM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696080" y="54000"/>
            <a:ext cx="1371600" cy="981000"/>
          </a:xfrm>
          <a:prstGeom prst="rect">
            <a:avLst/>
          </a:prstGeom>
          <a:ln w="8892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 rot="5400000">
            <a:off x="7657920" y="22478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B T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7-17T03:07:36Z</cp:lastPrinted>
  <dcterms:modified xsi:type="dcterms:W3CDTF">2008-07-17T03:07:39Z</dcterms:modified>
  <cp:revision>31</cp:revision>
  <dc:subject/>
  <dc:title>PowerPoint Presentation</dc:title>
</cp:coreProperties>
</file>